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258-90A6-4675-B4FD-D4CCC14A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373-BF9A-4491-913A-3DDA7EC7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DB3-A637-4290-8936-2A812CA3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480-025D-4EFB-8C48-F336B280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66EA-E76F-41FD-A9F5-38B73C9F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1F97-A6C5-46B4-B947-1F9D4EEE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E74E-3B8D-4284-AD8A-A34D4BA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E48B-1E89-4EED-8187-EE75283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8ECF-67CC-4494-8F5F-E328148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2179-DA16-4CD3-B058-AE5A4FD9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25D5-ABB4-4AE1-BE69-74E2CDB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4C7-780C-4BDA-AAC2-156CF9A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EE44-79F0-45BA-89CD-E7C87FB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D2D7-473C-4978-881A-1A29D7B1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12FB-E678-45F3-922D-B43976A0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622-210F-4EA7-981B-086A3F05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F9F0-63B8-4166-BB0F-4294FA4B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BEDF-E910-44B8-86E9-F50DC64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0E81-1D5E-4AF2-91DF-4F12B4FB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FBF7-B796-464D-B507-CAC688C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EF30-C871-447E-B2FF-0C91801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A230-EC4F-474D-8E9D-B71B67C6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BF5-2674-447C-A0FE-66AE8547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D710-75AF-4A79-8A73-9C6C4C69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B44E-0D44-4824-9E63-25D1095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AFA5-D603-40DA-8414-682C702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F499-0CE3-4ACB-B55F-86EAE61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5F90-7733-450D-9211-696CB7A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21D8-7260-42E0-92B7-E2C96C9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D80A-CDDB-4358-B744-CADAEB65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3513-2251-4F0A-B421-5193A836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8C8F-8817-4D5F-82E5-E50DD2B2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A9D9-824A-4260-A41A-0A7B9793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9D3-A455-43E0-8512-7FD8F9CD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6453-C029-4D74-9F79-E194825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4A8D-3F7B-4CFF-B800-3BB65F29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1214-ABCA-4E53-BC17-F06DC55A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985D-E7D4-4786-BBC6-40BBBC2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99A3-C108-49D4-9655-2554D7C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625D-F38B-4A61-A64C-8D7E303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F7F4-6DC5-4057-9082-7DA3473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0B15-E9A5-4806-94E0-D9F7F288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F49A-98AA-48D0-8FBF-CB18B974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82EA-A428-48B1-BD58-2BEC8A81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3EF-44FF-48CB-B7AD-D02807B3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C62C-7183-4134-BD63-11803AF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E8A4-34EB-433F-9C3C-EA484305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64961-C404-4A75-AC5C-A4AD710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D3F7-638B-47D4-9C5A-84D287F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1485-0883-45A2-B9BE-B53EA2E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52B22-95D9-442F-8248-F83CEB0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986F-38FB-43E7-BA38-1278FB4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28355-860C-4251-9863-852FB4E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F087-F102-4BDF-A414-179669B7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9332-2BAC-4F74-8A79-A2A0AE33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00A-5A90-4D98-A728-608A3563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0DEC-49A9-4326-A44E-76200403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24B2-BBE9-4619-90F2-F206CAD3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1B2CB-E36E-4BA9-B1D2-13527FC6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B46E-6810-4072-AD3F-AB9AED4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49BC-E0A9-471D-883B-CDD38DB2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4CFFE-2222-496A-A17A-9F1D5FE1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1935-C704-463F-A63D-23FD0E40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BBC7C-F51A-4B67-AE7F-29212EF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E4F8-C699-4C47-8BF9-783849D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AF0E1-837A-4604-A4B3-1856ADD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9A4-B1B7-43FA-B329-371760F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B2D8A-2B16-4142-9D00-B57C102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D0E8-6D22-4406-9C3B-12814D8E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DD65-D50A-486A-BC43-17CBD448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1E5E1-DC75-46D4-9391-EDAC7000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D502C-2433-4EB5-BE90-86F3801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161A6-FF52-4960-AF92-D11963E5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80785-098A-4212-AA52-3D0463D4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36F9-4FBA-4984-AADF-2181417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A289C-3761-4649-9F7C-92D76BA9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7B75-BCAD-4E64-AE27-41F4FF2D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4BC-1AF0-4197-AE2B-2FB2114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02996-D9D7-4C7A-8D5D-80FA154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E026-7B63-4677-8FEB-EA7D2C2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B752-769D-4A1C-9819-22065B4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A2F1-5CBB-45BC-B091-76EAA172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6677B-0DC5-47CD-B2DC-6D74293C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63C-5E51-42E7-99B2-750F189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AAD-0BA3-446B-9211-038571868FEA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0880-792B-4924-8727-B71148CD73F2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dd8047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dd8047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0583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0583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058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3FE-1CC1-4E6A-B4EC-402286EE3E0E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C03-E315-4BA2-A215-646F9DB2E770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058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7989-A597-4A50-87F7-104FE09AE41C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AD8C-9EE8-4BC2-BFEB-60673A5AF0AE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6799-7725-485C-A53F-A0BEF390E641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17b35"/>
                </a:solidFill>
                <a:latin typeface="Corbel"/>
              </a:rPr>
              <a:t>Wilfred Owen</a:t>
            </a:r>
            <a:endParaRPr b="0" lang="en-US" sz="2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70" name="Picture 3" descr="2000YardStare.jpg"/>
          <p:cNvPicPr/>
          <p:nvPr/>
        </p:nvPicPr>
        <p:blipFill>
          <a:blip r:embed="rId2"/>
          <a:stretch/>
        </p:blipFill>
        <p:spPr>
          <a:xfrm>
            <a:off x="5148360" y="404640"/>
            <a:ext cx="3574800" cy="374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Contex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orld War I (1914-1918)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Trench warfare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Use of chlorine &amp; mustard gas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73" name="Picture 3" descr="trench.jpg"/>
          <p:cNvPicPr/>
          <p:nvPr/>
        </p:nvPicPr>
        <p:blipFill>
          <a:blip r:embed="rId1"/>
          <a:srcRect l="17325" t="0" r="0" b="0"/>
          <a:stretch/>
        </p:blipFill>
        <p:spPr>
          <a:xfrm>
            <a:off x="5867280" y="1484280"/>
            <a:ext cx="3276720" cy="2857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WWI_gas_mask.png"/>
          <p:cNvPicPr/>
          <p:nvPr/>
        </p:nvPicPr>
        <p:blipFill>
          <a:blip r:embed="rId2"/>
          <a:srcRect l="0" t="0" r="0" b="21222"/>
          <a:stretch/>
        </p:blipFill>
        <p:spPr>
          <a:xfrm>
            <a:off x="6084720" y="4797360"/>
            <a:ext cx="1738440" cy="2060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green-smoke-800x600-300x225.jpg"/>
          <p:cNvPicPr/>
          <p:nvPr/>
        </p:nvPicPr>
        <p:blipFill>
          <a:blip r:embed="rId3"/>
          <a:stretch/>
        </p:blipFill>
        <p:spPr>
          <a:xfrm>
            <a:off x="2316240" y="4718160"/>
            <a:ext cx="245088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Contex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5564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The Author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An English poet who fought in WWI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Killed in combat, aged 25, just 7 days before the war ended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His writing was a complete contrast to other war poetry at that time, which was very </a:t>
            </a:r>
            <a:br>
              <a:rPr sz="2600"/>
            </a:b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patriotic, idealistic and motivational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78" name="Picture 3" descr="poet-owen.jpg"/>
          <p:cNvPicPr/>
          <p:nvPr/>
        </p:nvPicPr>
        <p:blipFill>
          <a:blip r:embed="rId1"/>
          <a:stretch/>
        </p:blipFill>
        <p:spPr>
          <a:xfrm>
            <a:off x="6804000" y="260280"/>
            <a:ext cx="2122560" cy="2122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flag.jpg"/>
          <p:cNvPicPr/>
          <p:nvPr/>
        </p:nvPicPr>
        <p:blipFill>
          <a:blip r:embed="rId2"/>
          <a:stretch/>
        </p:blipFill>
        <p:spPr>
          <a:xfrm>
            <a:off x="5148360" y="4633920"/>
            <a:ext cx="1415880" cy="2224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ww1.jpg"/>
          <p:cNvPicPr/>
          <p:nvPr/>
        </p:nvPicPr>
        <p:blipFill>
          <a:blip r:embed="rId3"/>
          <a:stretch/>
        </p:blipFill>
        <p:spPr>
          <a:xfrm>
            <a:off x="1403280" y="5013360"/>
            <a:ext cx="3268800" cy="1677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poster point.jpg"/>
          <p:cNvPicPr/>
          <p:nvPr/>
        </p:nvPicPr>
        <p:blipFill>
          <a:blip r:embed="rId4"/>
          <a:stretch/>
        </p:blipFill>
        <p:spPr>
          <a:xfrm>
            <a:off x="7236000" y="4017960"/>
            <a:ext cx="190800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Techniques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ord Choice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Similes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Onomatopoeia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84" name="Picture 3" descr="SussexDSCF1967300web.jpg"/>
          <p:cNvPicPr/>
          <p:nvPr/>
        </p:nvPicPr>
        <p:blipFill>
          <a:blip r:embed="rId1"/>
          <a:stretch/>
        </p:blipFill>
        <p:spPr>
          <a:xfrm>
            <a:off x="5724360" y="47628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1.jpg"/>
          <p:cNvPicPr/>
          <p:nvPr/>
        </p:nvPicPr>
        <p:blipFill>
          <a:blip r:embed="rId2"/>
          <a:stretch/>
        </p:blipFill>
        <p:spPr>
          <a:xfrm>
            <a:off x="5940360" y="3213000"/>
            <a:ext cx="2395440" cy="324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The Poem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pic>
        <p:nvPicPr>
          <p:cNvPr id="387" name="Poem Video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The Task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0af72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Choose a line from the poem.</a:t>
            </a:r>
            <a:br>
              <a:rPr sz="3000"/>
            </a:b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0af72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hat images come to mind when you read the line?</a:t>
            </a:r>
            <a:br>
              <a:rPr sz="3000"/>
            </a:b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0af72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Using your chosen method, create an A4 display representing your interpretation of the line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90" name="Picture 3" descr="wn15-14b.jpg"/>
          <p:cNvPicPr/>
          <p:nvPr/>
        </p:nvPicPr>
        <p:blipFill>
          <a:blip r:embed="rId1"/>
          <a:stretch/>
        </p:blipFill>
        <p:spPr>
          <a:xfrm>
            <a:off x="6875640" y="260280"/>
            <a:ext cx="1760400" cy="2349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imag0492.jpg"/>
          <p:cNvPicPr/>
          <p:nvPr/>
        </p:nvPicPr>
        <p:blipFill>
          <a:blip r:embed="rId2"/>
          <a:stretch/>
        </p:blipFill>
        <p:spPr>
          <a:xfrm>
            <a:off x="4140360" y="5448240"/>
            <a:ext cx="248904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Some Ideas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Collage of magazine / </a:t>
            </a:r>
            <a:br>
              <a:rPr sz="3000"/>
            </a:b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newspaper images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Drawings or sketches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eb content: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Images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Research/articles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Word clouds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Any other method you can think of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94" name="Picture 3" descr="collage 2.jpg"/>
          <p:cNvPicPr/>
          <p:nvPr/>
        </p:nvPicPr>
        <p:blipFill>
          <a:blip r:embed="rId1"/>
          <a:stretch/>
        </p:blipFill>
        <p:spPr>
          <a:xfrm>
            <a:off x="5796000" y="189000"/>
            <a:ext cx="2982960" cy="2076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WhenAreTheOthers.jpg"/>
          <p:cNvPicPr/>
          <p:nvPr/>
        </p:nvPicPr>
        <p:blipFill>
          <a:blip r:embed="rId2"/>
          <a:stretch/>
        </p:blipFill>
        <p:spPr>
          <a:xfrm>
            <a:off x="6227640" y="2708280"/>
            <a:ext cx="2124360" cy="30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pic>
        <p:nvPicPr>
          <p:cNvPr id="397" name="Picture 3" descr="art2.jpg"/>
          <p:cNvPicPr/>
          <p:nvPr/>
        </p:nvPicPr>
        <p:blipFill>
          <a:blip r:embed="rId1"/>
          <a:stretch/>
        </p:blipFill>
        <p:spPr>
          <a:xfrm>
            <a:off x="324000" y="4154400"/>
            <a:ext cx="2279520" cy="270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art 1.jpg"/>
          <p:cNvPicPr/>
          <p:nvPr/>
        </p:nvPicPr>
        <p:blipFill>
          <a:blip r:embed="rId2"/>
          <a:stretch/>
        </p:blipFill>
        <p:spPr>
          <a:xfrm>
            <a:off x="6350040" y="0"/>
            <a:ext cx="2793960" cy="2087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explosion-gimp-tutorial.jpg"/>
          <p:cNvPicPr/>
          <p:nvPr/>
        </p:nvPicPr>
        <p:blipFill>
          <a:blip r:embed="rId3"/>
          <a:stretch/>
        </p:blipFill>
        <p:spPr>
          <a:xfrm>
            <a:off x="611280" y="134136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blood_spatter.jpg"/>
          <p:cNvPicPr/>
          <p:nvPr/>
        </p:nvPicPr>
        <p:blipFill>
          <a:blip r:embed="rId4"/>
          <a:srcRect l="0" t="0" r="13299" b="0"/>
          <a:stretch/>
        </p:blipFill>
        <p:spPr>
          <a:xfrm>
            <a:off x="7308720" y="2421000"/>
            <a:ext cx="1835280" cy="1380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call-of-duty-2.jpg"/>
          <p:cNvPicPr/>
          <p:nvPr/>
        </p:nvPicPr>
        <p:blipFill>
          <a:blip r:embed="rId5"/>
          <a:stretch/>
        </p:blipFill>
        <p:spPr>
          <a:xfrm>
            <a:off x="3203640" y="260280"/>
            <a:ext cx="2747880" cy="2060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110199-bigthumbnail.jpg"/>
          <p:cNvPicPr/>
          <p:nvPr/>
        </p:nvPicPr>
        <p:blipFill>
          <a:blip r:embed="rId6"/>
          <a:stretch/>
        </p:blipFill>
        <p:spPr>
          <a:xfrm>
            <a:off x="2627280" y="5095800"/>
            <a:ext cx="2346480" cy="1762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BarbedWire02.jpg"/>
          <p:cNvPicPr/>
          <p:nvPr/>
        </p:nvPicPr>
        <p:blipFill>
          <a:blip r:embed="rId7"/>
          <a:stretch/>
        </p:blipFill>
        <p:spPr>
          <a:xfrm>
            <a:off x="5076720" y="5433840"/>
            <a:ext cx="2127240" cy="1424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collage 3.JPG"/>
          <p:cNvPicPr/>
          <p:nvPr/>
        </p:nvPicPr>
        <p:blipFill>
          <a:blip r:embed="rId8"/>
          <a:stretch/>
        </p:blipFill>
        <p:spPr>
          <a:xfrm>
            <a:off x="1908000" y="2852640"/>
            <a:ext cx="3500640" cy="1965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word cloud.jpg"/>
          <p:cNvPicPr/>
          <p:nvPr/>
        </p:nvPicPr>
        <p:blipFill>
          <a:blip r:embed="rId9"/>
          <a:stretch/>
        </p:blipFill>
        <p:spPr>
          <a:xfrm>
            <a:off x="4140360" y="3716280"/>
            <a:ext cx="3160440" cy="182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ww1 mad brute poster.jpg"/>
          <p:cNvPicPr/>
          <p:nvPr/>
        </p:nvPicPr>
        <p:blipFill>
          <a:blip r:embed="rId10"/>
          <a:stretch/>
        </p:blipFill>
        <p:spPr>
          <a:xfrm>
            <a:off x="7192800" y="4005360"/>
            <a:ext cx="1951200" cy="2852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War Collage.JPG"/>
          <p:cNvPicPr/>
          <p:nvPr/>
        </p:nvPicPr>
        <p:blipFill>
          <a:blip r:embed="rId11"/>
          <a:stretch/>
        </p:blipFill>
        <p:spPr>
          <a:xfrm>
            <a:off x="5003640" y="1844640"/>
            <a:ext cx="2649600" cy="198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4:16:37Z</dcterms:created>
  <dc:creator> </dc:creator>
  <dc:description/>
  <dc:language>en-US</dc:language>
  <cp:lastModifiedBy> </cp:lastModifiedBy>
  <dcterms:modified xsi:type="dcterms:W3CDTF">2011-09-23T09:26:19Z</dcterms:modified>
  <cp:revision>21</cp:revision>
  <dc:subject/>
  <dc:title>Dulce Et Decorum Est</dc:title>
</cp:coreProperties>
</file>